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2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F20-EC3F-4D8D-ADEA-C0BF8800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1EA-7264-422A-9C01-D5EC9BFC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F06-C758-441C-B972-271C1630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276-A15C-4469-91BC-3B3FD71C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585C-88BA-431D-BB30-98928634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99A8-A301-4631-9F93-28DB60EE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AD56-254B-41DD-BF58-387E5781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D9B2-F54F-4053-B771-B86C5AE5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78B9-E6B3-4A05-B451-3DDC3A66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401F-2A4E-4268-8625-2381AF13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337D-9143-4DD7-9B5A-1A69718B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308-19BC-4028-AD81-5AF05C0F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0F5A-889B-4AFD-91F9-35C6041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556A-3BFF-4CF2-9B37-73C1F565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75B2-D13E-4D4D-90B1-1112F1AF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8D00-1D63-4EAB-8D16-FA168589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B8E8-52C5-4F53-A70F-595D346B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021-1841-4A9D-B32A-19885564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0DD-28E8-4915-A468-812FD3CA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AB3-1A74-49C2-82F7-F923572A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5E2-4160-4ADE-82DE-897483C7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B33-2371-4881-9C6C-F5543D96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26E-A03F-471D-9065-7BE48B3D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18A-62C8-4CC0-AF2A-16495F54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FC39-B4AD-43C9-A50C-EB82DAB9C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05A8-9DCD-4D3E-AB1A-B7DFE8895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Thomas S. Kuh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발제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정동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4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ajor epicycle &amp; minor epicycles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전원의 두가지 기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Major epicycle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운동 등의 현상에 대한 질적인 설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Minor epicycle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론과 관찰 사이의 양적인 차이에 대한 미세조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가 없앤 주전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major epicycles 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not minor epicycle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5)</a:t>
            </a:r>
            <a:br>
              <a:rPr sz="3400"/>
            </a:b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ccentric &amp; Equan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148428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Eccentri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5184720" cy="217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24720" y="321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Equa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Ptolemy%20equant%202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57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5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y &amp; Ptolemaic Astronomy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의 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Almages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9560" indent="-427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난 천문학의 성과 종합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complete, detailed &amp; quantitative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9560" indent="-427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동안 개발된 수학적 도구 체계적으로 사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9560" indent="-427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모든 행성의 운동 양적으로 설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0080" indent="-460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천문학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후속 작업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9560" indent="-427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전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심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대심 추가 또는 제거하는 작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9560" indent="-427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법에 대한 근본적 수정 없었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278720" indent="-38736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도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quant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를 제외하면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 점에서 다를 바 없음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Anatomy of Scientific Belief (1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“It Never quite Worked”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과의 불일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질적 설명의 성공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양적 불일치의 지속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</a:t>
            </a:r>
            <a:r>
              <a:rPr b="0" lang="en-US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도 마찬가지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가 매달린 문제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확성 위한 단순성의 감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불만</a:t>
            </a:r>
            <a:r>
              <a:rPr b="0" lang="en-US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러나 그도 해결 못함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Anatomy of Scientific Belief (2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Longevity of Ptolemaic System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의 장수가 던지는 질문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어떻게 불완전한 체계가 천문학자들을 그렇게 오랜 기간 동안 사로잡을 수 있었는가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 (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의 지연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어떻게 그 심리적 통제가 풀릴 수 있었는가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 (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의 성공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r>
              <a:rPr b="0" lang="zh-CN" sz="3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역사적 문제이자 개념 도식의 본성과 구조에 대한 문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Anatomy of Scientific Belief (3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Logical Outline for Revolution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과 이론의 관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현실적인 관찰을 만족시키는 두 개 이상의 대안적 이론 언제나 가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잠재적 차이는 있을 수 있음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g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연주시차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 잠재적 차이를 밝히기 위한 새로운 연구를 위해서는 새 이론을 미리 믿어야 함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즉 그에 대한 자신감 필요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오류가능하다는 위험부담 존재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에 대한 논리적 개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론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/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의 불일치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임시변통적 해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에 대한 불만으로 새로운 이론 등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Anatomy of Scientific Belief (4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Logical Outline vs. History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에 대한 논리적 개요와 역사적 사실과의 불일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는 관찰과의 불일치에도 불구하고 엄청 장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천문학에 대한 서로 다른 태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임시변통적 해결책으로 가득찬 괴물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동시대의 천문학자들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스런 작업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궁극적으로 완벽히 작동할 것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의 장수 원인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최초의 인상적인 성공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band-wagon effect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문학 외의 맥락과의 연관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상계의 맥락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신적 맥락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ntents 2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The Problem of the Planet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us’ Innovation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us and the Revolu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Motives for Innovation – Copernicus’ Prefac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us’ Physics and Cosmology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an Astronomy – The Two Sphere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an Astronomy – The Su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Copernican Astronomy – The Planet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Harmony of the Copernican System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Revolution by Degree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The Assimilation of Copernican Astronom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 and the Revolution</a:t>
            </a:r>
            <a:br>
              <a:rPr sz="3400"/>
            </a:br>
            <a:r>
              <a:rPr b="0" i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De Revolutionibus Orbium Caelestium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을 시작한 책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의 회전에 관하여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1543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책 자체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vs.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책의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예기치 못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적 귀결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운동을 제외하면 전통적인 천문학에 의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 개념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수학적 기법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원운동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전원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심원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도입부를 제외하면 난해한 수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전문가를 대상으로 한 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혁명을 시작한 책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과거 전통의 최정점이자 새로운 전통의 씨앗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이는 혁명을 시작한 모든 저작의 공통점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Q1. 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어떻게 혁신이 전통에서 비롯될 수 있는가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Q2. 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어떻게 계승자에게 그 혁신이 인식될 수 있는가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otives for Innovation (1)</a:t>
            </a:r>
            <a:br>
              <a:rPr sz="3400"/>
            </a:b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onsterious Ptolemaic Astronomy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에 대한 불만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괴물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체계의 남발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럼에도 이론과 관찰의 계속된 불일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단일하지 않은 원리의 복잡한 사용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의 조화와 대칭성 훼손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신플라톤주의의 영향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시간의 효과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새로이 누적된 자료 및 오차의 누적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오래된 시계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잘못된 자료 또한 누적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ntents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Problem of the Planet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Epicycles and Deferent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Ptolemaic Astronom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Anatomy of Scientific Belief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Copernicus’ Innov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The Assimilation of Copernican Astronomy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otives for Innovation (2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athematical Astronomer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코페르니쿠스의 지구 운동 개념은 천문학의 기술적인 문제 해결을 위한 효과적인 기법을 찾다가 나온 부산물이었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의 회전에 관하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혁명적 귀결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러나 그 자체는 순전히 기술적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전문적인 천문학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를 움직이게 만든 것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수리 행성 천문학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not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론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철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 지동설 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vs. </a:t>
            </a: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고대의 지동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Complete, Detailed &amp; Quantitative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모든 천문학적 문제에 대한 정교한 수학적 체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전문가들에게 어쩔 수 없이 수용되게 만듦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Physics and Cosmology (1)</a:t>
            </a:r>
            <a:br>
              <a:rPr sz="30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First Book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반인을 위한 전문적이지 않은 부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목적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아리스토텔레스 우주론 내에서 지구 운동 허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동설의 주요근거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출처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스콜라 철학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g. Oresme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규칙성은 원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조합 외에는 불가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는 천체와 같이 구형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따라서 지구도 원운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연스러운 운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왜 담긴 것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 아니라 담은 것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가 움직여야 하는가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 회전 속도의 문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무한한 것은 움직일 수 없다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등등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설득력 부족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동설을 원래 믿을 사람에게나 진지하게 읽혀질 부분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주된 관심사 아니었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Physics and Cosmology (2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Incongruity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부조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운동은 전통우주의 입장에서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anomal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우주는 전통우주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은 우주의 중심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not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별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유한한 우주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다소 커져야 하긴 했음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을 돌려주는 천구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단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최외각 천구는 정지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모든 운동 원운동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전원 여전히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Astronom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– The Two Sphere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</a:t>
            </a:r>
            <a:r>
              <a:rPr b="0" lang="en-US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가지 운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전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공전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회전축의 연주운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회전을 통해 천체의 겉보기 회전 설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문제</a:t>
            </a:r>
            <a:r>
              <a:rPr b="0" lang="en-US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회전반경과 항성천구의 크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수평면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horizontal plane)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 항성천구를 반으로 자름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회전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공전 및 자전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반경이 항성천구에 비해 극히 작야야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토성과 항성천구 사이의 간격 너무 벌어짐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직관적으로 문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zh-CN" sz="23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후 계승자들에 의해 무한 우주론으로 발전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Astronom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– The Su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설명력 </a:t>
            </a:r>
            <a:r>
              <a:rPr b="0" lang="en-US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단순성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와 동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 체계가 </a:t>
            </a:r>
            <a:r>
              <a:rPr b="0" lang="zh-CN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더 간단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연주시차의 문제</a:t>
            </a:r>
            <a:r>
              <a:rPr b="0" lang="en-US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의 크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538800" cy="208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232360" cy="2055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643280" y="4221000"/>
            <a:ext cx="3945240" cy="1855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56000" y="4149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회전축의 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Astronomy – The Plaets (1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limination of major epicycle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운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주기 불일치 문제 해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3913200" cy="3035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003640" y="2637000"/>
            <a:ext cx="28609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pernicus’ Astronomy – The Plaets </a:t>
            </a:r>
            <a:r>
              <a:rPr b="0" lang="ko-KR" sz="28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(2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Still Complex System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803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미세조정 위해 여전히 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minor epicycle &amp; eccentric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필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5400720" cy="2979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5300640"/>
            <a:ext cx="5581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정확성</a:t>
            </a: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복잡성</a:t>
            </a: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일관성 나아진 것 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또다른 코페르니쿠스라면 자신에 대해 똑같이 비난했을 것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Harmony of the Copernican System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803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실용적 실패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vs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사적 성공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계승자들은 무엇을 보고 코페르니쿠스주의자가 되었는가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취향의 문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하학적 조화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 운동에 대한 질적 설명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+ alpha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21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내행성의 최대이각 ‘자연스런’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3457800" cy="181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716360" y="3213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반경과 주기 사이의 조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384360" cy="1773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26920" y="558972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조화와 대칭성에 근거한 증거</a:t>
            </a:r>
            <a:r>
              <a:rPr b="0" lang="en-US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실제적인 증거는 아님 </a:t>
            </a:r>
            <a:r>
              <a:rPr b="0" lang="en-US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-&gt; </a:t>
            </a: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제한된 몇 명에게만 호소력 있었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Revolution by Degree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803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계승자의 출발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운동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 귀결로서의 ‘새로운 조화’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계승자들이 푼 문제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중심설의 난점 해결하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계승자들의 혁신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각 개인으로서는 제한적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작업도구는 전통교육의 산물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자원의 제약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즉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의 한계는 모든 혁명을 시작한 작업의 본질적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전형적 특징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프톨레마이오스로부터 물려받은 코페르니쿠스의 특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물리적 실재와의 부조화에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상대적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무관심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차적으로 천문학 문제를 푸는 것에 집중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를 움직이게 한 원동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ontents 3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The Problem of the Planet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Copernicus’ Innov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Assimilation of Copernican Astronomy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Reception of Copernicus’ Work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ycho Brahe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Johannes Kepler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Galileo Galilei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cc0000"/>
                </a:solidFill>
                <a:latin typeface="(한)한솔체C"/>
                <a:ea typeface="(한)한솔체C"/>
              </a:rPr>
              <a:t>The Decline of Ptolemaic Astronom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picycles and Deferents (1)</a:t>
            </a:r>
            <a:br>
              <a:rPr sz="3400"/>
            </a:b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Classical Common Belief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하늘의 일주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의 연주운동 </a:t>
            </a:r>
            <a:r>
              <a:rPr b="0" lang="en-US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황도</a:t>
            </a:r>
            <a:r>
              <a:rPr b="0" lang="en-US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황도면 근처에서 떠돌아다니는 행성 </a:t>
            </a:r>
            <a:r>
              <a:rPr b="0" lang="en-US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서→동</a:t>
            </a:r>
            <a:r>
              <a:rPr b="0" lang="en-US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수성</a:t>
            </a:r>
            <a:r>
              <a:rPr b="0" lang="en-US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금성의 최대이각 존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의 역행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Reception of Copernicus’ Work (1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Astronomers’ Reception: Infiltr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803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문학자들에게 ‘침투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무시못할 걸작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출판 전에 이미 뛰어난 천문학자로 명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중심가설에 회의적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복잡성에 실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깊이’와 ‘완전성’ 면에서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Almagest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에 필적할만한 유일한 작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후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50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년간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Second Ptolemy,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다수 인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후 또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50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년간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Standard Refere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러나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책의 성공이 지동설의 성공을 뜻하진 않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초기 수용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도구주의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확한 천문학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As if ~~ :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가 도는 것’처럼’ 가정하고 계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점차 그 불합리성에 대한 감정 완화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Reinhold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Prutenic Table: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가장 최신 천문학표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어쩔 수 없이 사용</a:t>
            </a:r>
            <a:r>
              <a:rPr b="0" lang="ko-KR" sz="2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Reception of Copernicus’ Work (2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eople’s Widespread Clamor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803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널리 퍼진 불평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치적 급진 성향과는 무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근거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아리스토텔레스의 물리법칙 위반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근거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2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성서 위반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특히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개신교의 성서에 대한 문자그대로의 해석에 기초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카톨릭의 대응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7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기 초 이전에는 무관심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 함축 단번에 알 수 없음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7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세기 초 이후의 박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기독교 스스로의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Counter Reformation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의 일환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주의 함축 명백해고 그 영향력 무시못하게 되었을때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러나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이미 늦었음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3" marL="1693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ycho Brahe (1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ychonic System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640" y="1753920"/>
            <a:ext cx="422136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중심체계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체계와 수학적 동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연주시차 관측안됨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토성과 항성천구 사이의 거리 너무 커지는 것에 불만족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그럼에도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체계의 잇점 무시할 수 없었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결국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관찰자 시점 바꾼 절충안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코페르니쿠스체계와 친숙하게 해줌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체계의 부조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의 중심과 행성의 중심의 차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물리적 메커니즘 해명의 어려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1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개념 파괴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7180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ycho Brahe (2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Skillful Observ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640" y="175392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정밀하고 안정적인 관찰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최신 자료 업데이트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신뢰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신성과 혜성의 관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상계의 현상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주시차 측정안됨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사이를 돌아다니는 혜성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천구 개념 파괴에 일조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-&gt; 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하늘의 안정성 파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이러한 증거들이 코페르니쿠스체계를 지지하는가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직접적이진 않지만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전통적인 우주 파괴함으로써</a:t>
            </a:r>
            <a:r>
              <a:rPr b="0" lang="ko-KR" sz="22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Yohannes Kepler (1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Laws of Mar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640" y="175392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두가지 법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법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타원궤도의 법칙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법칙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면적속도일정의 법칙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법칙 발견을 위한 요건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사전에 코페르니쿠스주의자여야 했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브라헤의 정밀한 자료 필요했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우주의 조화로운 수학적 체계에 대한 믿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원동력으로서의 태양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제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법칙의 원래 형식</a:t>
            </a: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둘은 함께 발견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9592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Yohannes Kepler (2)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The Third Law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640" y="175392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제 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법칙 </a:t>
            </a:r>
            <a:r>
              <a:rPr b="0" lang="en-US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vs. </a:t>
            </a: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금은 버려진 법칙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4087800" cy="3575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508720" y="2708280"/>
            <a:ext cx="2735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다른 여타의 법칙발견을 위한 노력과 제</a:t>
            </a:r>
            <a:r>
              <a:rPr b="0" lang="en-US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법칙 발견을 위한 노력은 동등</a:t>
            </a:r>
            <a:r>
              <a:rPr b="0" lang="en-US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그것 없이는 제</a:t>
            </a:r>
            <a:r>
              <a:rPr b="0" lang="en-US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법칙도 발견 불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Galileo Galilei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640" y="175392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망원경과 하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불완전성</a:t>
            </a:r>
            <a:r>
              <a:rPr b="0" lang="en-US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달</a:t>
            </a:r>
            <a:r>
              <a:rPr b="0" lang="en-US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</a:t>
            </a:r>
            <a:r>
              <a:rPr b="0" lang="en-US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목성의 위성</a:t>
            </a:r>
            <a:r>
              <a:rPr b="0" lang="en-US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의 달 해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금성의 크기와 위상 변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3895560" cy="3017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042920" y="551664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수성 제외하면 심리적 설명</a:t>
            </a:r>
            <a:r>
              <a:rPr b="0" lang="en-US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. (</a:t>
            </a: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어쩌면 수성도</a:t>
            </a:r>
            <a:r>
              <a:rPr b="0" lang="en-US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). </a:t>
            </a: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사후적 설명</a:t>
            </a:r>
            <a:r>
              <a:rPr b="0" lang="en-US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. </a:t>
            </a:r>
            <a:r>
              <a:rPr b="0" lang="zh-CN" sz="20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일반인들에게 엄청난 호소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48243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picycles and Deferents (2)</a:t>
            </a:r>
            <a:br>
              <a:rPr sz="3400"/>
            </a:b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lanet’s Retrograde Motion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085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(한)한솔체B"/>
              <a:ea typeface="(한)한솔체B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63370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picycles and Deferents (3)</a:t>
            </a:r>
            <a:br>
              <a:rPr sz="3400"/>
            </a:br>
            <a:r>
              <a:rPr b="0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Basic Form and Function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3920"/>
            <a:ext cx="4653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찍부터 사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Eg. Apollonius &amp; Hipparchus (BC 3-2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설명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지구와의 거리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&amp;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밝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운동의 시기와 위치 불일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(한)한솔체C"/>
                <a:ea typeface="(한)한솔체C"/>
              </a:rPr>
              <a:t>Powerful &amp; Economical Explan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92720" y="1700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095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Epicycles and Deferents (3)</a:t>
            </a:r>
            <a:br>
              <a:rPr sz="3400"/>
            </a:br>
            <a:r>
              <a:rPr b="0" lang="ko-KR" sz="25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ercury’s deviation from one trip to the next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황도면 일주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평균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1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 주기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116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즉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주전원의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3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번 회전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348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&lt;365</a:t>
            </a:r>
            <a:r>
              <a:rPr b="0" lang="ko-KR" sz="2600" spc="-1" strike="noStrike">
                <a:solidFill>
                  <a:srgbClr val="cc0000"/>
                </a:solidFill>
                <a:latin typeface="송성훈 동화체"/>
                <a:ea typeface="송성훈 동화체"/>
              </a:rPr>
              <a:t>일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73436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1)</a:t>
            </a:r>
            <a:br>
              <a:rPr sz="3800"/>
            </a:br>
            <a:r>
              <a:rPr b="0" lang="en-US" sz="26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one-epicycle &amp; one-deferent system’s problem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미세조정이 필요한 문제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금성의 최대이각이 항상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45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도가 아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역행운동 주기의 불일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 일주면과 황도면의 불일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행성 운동 각속도의 주기적 변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(eg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태양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춘분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추분점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vs. 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추분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-&gt;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춘분점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. 6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일차</a:t>
            </a: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문제해결을 위한 프톨레마이오스의 수학적 도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송성훈 동화체"/>
                <a:ea typeface="송성훈 동화체"/>
              </a:rPr>
              <a:t>minor epicycle, eccentric &amp; equant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925040" cy="2957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2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inor epicycle: Basic Forms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5013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Minor epicycle: westward (b) one revolution(sun) (c) two revolutio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(한)한솔체B"/>
                <a:ea typeface="(한)한솔체B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a3b2c1"/>
                </a:solidFill>
                <a:latin typeface="(한)한솔체B"/>
                <a:ea typeface="(한)한솔체B"/>
              </a:rPr>
              <a:t>6days long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Ptolemaic Astronomy (3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(한)한솔체D"/>
                <a:ea typeface="(한)한솔체D"/>
              </a:rPr>
              <a:t>Minor epicycle: Planets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8469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2:25:34Z</dcterms:created>
  <dc:creator>user</dc:creator>
  <dc:description/>
  <dc:language>en-US</dc:language>
  <cp:lastModifiedBy>user</cp:lastModifiedBy>
  <dcterms:modified xsi:type="dcterms:W3CDTF">2006-04-17T09:24:12Z</dcterms:modified>
  <cp:revision>11</cp:revision>
  <dc:subject/>
  <dc:title>The Copernican Revolution Planetary Astronomy in the Development of Western Thought</dc:title>
</cp:coreProperties>
</file>